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91CCD-366F-44C6-B851-1DD82BD0CD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6D8E4-7371-4AAD-A098-2C9F268030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374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8800" y="3879720"/>
            <a:ext cx="8374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0560" y="132408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51960" y="132408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8800" y="387972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0560" y="387972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51960" y="387972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8440" y="162000"/>
            <a:ext cx="845028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8374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008000"/>
            <a:ext cx="91440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6520" y="6470640"/>
            <a:ext cx="2984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  <a:ea typeface="Arial"/>
              </a:rPr>
              <a:t>©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 2003 Pearson Education Canada Inc.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077320" y="6478560"/>
            <a:ext cx="8190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Slide 6-</a:t>
            </a:r>
            <a:fld id="{257D6C04-B7CA-4C4F-811B-B961107DCC98}" type="slidenum">
              <a:rPr b="0" lang="en-US" sz="1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7280" y="1825200"/>
            <a:ext cx="7543800" cy="366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6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aster Budget and Responsibility Accounting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tivity-Based Budge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88440" y="1219320"/>
            <a:ext cx="81457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99960" indent="-39996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ctivity-based budgeting focuses on the cost of activities necessary to produce and sell products and servic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99960" indent="0">
              <a:spcBef>
                <a:spcPts val="1500"/>
              </a:spcBef>
              <a:buNone/>
              <a:tabLst>
                <a:tab algn="l" pos="0"/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 Key Step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99960" indent="-399960">
              <a:spcBef>
                <a:spcPts val="1500"/>
              </a:spcBef>
              <a:buClr>
                <a:srgbClr val="fafd00"/>
              </a:buClr>
              <a:buFont typeface="Arial"/>
              <a:buAutoNum type="arabicPeriod"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etermine budgeted costs for each activit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99960" indent="-399960">
              <a:spcBef>
                <a:spcPts val="1500"/>
              </a:spcBef>
              <a:buClr>
                <a:srgbClr val="fafd00"/>
              </a:buClr>
              <a:buFont typeface="Arial"/>
              <a:buAutoNum type="arabicPeriod"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etermine demand for each activit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99960" indent="-399960">
              <a:spcBef>
                <a:spcPts val="1500"/>
              </a:spcBef>
              <a:buClr>
                <a:srgbClr val="fafd00"/>
              </a:buClr>
              <a:buFont typeface="Arial"/>
              <a:buAutoNum type="arabicPeriod"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mpute the cost of each activit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99960" indent="-399960">
              <a:spcBef>
                <a:spcPts val="1500"/>
              </a:spcBef>
              <a:buClr>
                <a:srgbClr val="fafd00"/>
              </a:buClr>
              <a:buFont typeface="Arial"/>
              <a:buAutoNum type="arabicPeriod"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escribe budget in terms of costs of performing these activiti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0" y="64771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05 - 206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dgeting and Responsibility Accoun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8800" y="1371240"/>
            <a:ext cx="829800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99960" indent="-39996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sponsibility centre is a group within the organization with a manager accountable for results achieved by the centr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99960" indent="-39996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sponsibility accounting is a system that measures plans (by budgets) and actions (by actual results) of each responsibility centr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0" y="64771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07 - 20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62120" y="3962520"/>
            <a:ext cx="7772400" cy="22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5200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Type of Centre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Manager Responsible For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ctr" pos="5200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s only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ctr" pos="5200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venue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venues only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ctr" pos="5200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fit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venues and 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ctr" pos="5200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vestment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vestments, revenues &amp; 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sponsibility and Controllabilit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8800" y="1371240"/>
            <a:ext cx="8298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91680" indent="-3916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trollability is the degree of influence that a specific manager has over costs, revenues or other items in quest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91680" indent="-3916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trollable cost is any cost that is primarily subject to the influence of a manager for a given time spa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91680" indent="-3916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stablishing controllability is sometimes difficul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839880" indent="-33552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sponsibility for some costs are shared among more than one manage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839880" indent="-33552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ometimes what happens now is primarily due to the decisions taken by other managers in the pas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91680" indent="-3916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cus on using “controllability” for information and knowledge rather than contro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91680" indent="0">
              <a:spcBef>
                <a:spcPts val="601"/>
              </a:spcBef>
              <a:buNone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0" y="64771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07 - 20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sh Budge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8800" y="1218960"/>
            <a:ext cx="7772400" cy="218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ash budget is a schedule of expected cash receipts and disbursemen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edicts the effects on cash position at the given level of operatio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lans for the borrowing and repayment of loa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705720" y="64771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11 - 215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3581280"/>
            <a:ext cx="8153280" cy="2590920"/>
          </a:xfrm>
          <a:prstGeom prst="rect">
            <a:avLst/>
          </a:prstGeom>
          <a:noFill/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dec" pos="76201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eginning cash balanc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30,0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dec" pos="76201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ash receipt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913,7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dec" pos="76201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ash availabl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943,7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dec" pos="76201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ash disbursements (including minimum balance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1,140,88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dec" pos="76201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Excess (deficiency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(197,180)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dec" pos="76201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inancing: Borrow (repay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198,0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dec" pos="76201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Ending cash balanc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35,82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dge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81457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 budget is a quantitative expression for a set time period of a proposed future plan of action by managemen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ster Budge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-ordinates all the financial projections in the organization’s individual budgets in a single document for a set period of tim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cludes operating estimates, a cash budget, and pro forma financial statements (balance sheet, income statement, and statement of cash flows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705720" y="64771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91 - 192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dvantages of Budget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2216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hen administered intelligently, budgets: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motes planning including the implementation of pla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link the budget with strategic analysis for the organization including overall objectives, trends, risks, alternative strategi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vides performance criteria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mparing actual performance against a budget is better than comparing  this year’s achievements to last year’s resul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781680" y="647712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92 - 193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dvantages of Budgets (Continued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2216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motes communication and coordination within the organizat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y making everyone aware of plans in other departmen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acilitating communication is essentia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quires management support and administrat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op management support is necessary to achieve participat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hanging conditions call for changes in pla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781680" y="647712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92  - 194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ypes of Budget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2216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hile the normal time coverage of a budget is one year, other time periods are useful in certain cas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olling budget:  add a new month or quarter at the end of the current month or quarte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perating budget: budgeted income statement and supporting schedul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nancial budget: capital budget, cash budget, balance sheet, and statement of cash flow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781680" y="647712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94 - 195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ster Budget for a Retail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438280" y="1905120"/>
            <a:ext cx="1447920" cy="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648320" y="2286000"/>
            <a:ext cx="0" cy="68580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600200" y="2362320"/>
            <a:ext cx="0" cy="68580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743200" y="4267080"/>
            <a:ext cx="0" cy="60984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86200" y="3809880"/>
            <a:ext cx="0" cy="106704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09680" y="5486400"/>
            <a:ext cx="457200" cy="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4267080" y="5410080"/>
            <a:ext cx="457200" cy="0"/>
          </a:xfrm>
          <a:prstGeom prst="line">
            <a:avLst/>
          </a:prstGeom>
          <a:ln w="28440">
            <a:solidFill>
              <a:srgbClr val="fafd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6324480" y="5410080"/>
            <a:ext cx="457200" cy="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620120" y="4343400"/>
            <a:ext cx="0" cy="60948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057400" y="5943240"/>
            <a:ext cx="0" cy="30492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2057400" y="6248520"/>
            <a:ext cx="327672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5334120" y="5943240"/>
            <a:ext cx="0" cy="30492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58000" y="64771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195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86200" y="1447920"/>
            <a:ext cx="1592280" cy="8380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Purchase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Budge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505320" y="2971800"/>
            <a:ext cx="2361960" cy="8380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Cost of Good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Sold Budge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57200" y="3048120"/>
            <a:ext cx="2362320" cy="121896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Marketing &amp; Administration Cost Budget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781680" y="3429000"/>
            <a:ext cx="1600200" cy="9144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Capital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Budge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72640" y="1447920"/>
            <a:ext cx="1716120" cy="9144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afd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Sales Forecast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724280" y="4876920"/>
            <a:ext cx="1600200" cy="106668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Budgeted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Balanc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Shee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666880" y="4876920"/>
            <a:ext cx="1600200" cy="106668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Budgeted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incom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Statemen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781680" y="4952880"/>
            <a:ext cx="1600200" cy="83844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Cash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Budge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9480" y="4876920"/>
            <a:ext cx="1600200" cy="106668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Budgeted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Cash Flow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Statemen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ster Budget for a Manufactur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438280" y="1676520"/>
            <a:ext cx="1676520" cy="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05520" y="2057400"/>
            <a:ext cx="0" cy="30492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90720" y="2133720"/>
            <a:ext cx="0" cy="137160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743200" y="4648320"/>
            <a:ext cx="0" cy="38088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038480" y="4343400"/>
            <a:ext cx="0" cy="68580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2209680" y="5638680"/>
            <a:ext cx="457200" cy="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4267080" y="5562720"/>
            <a:ext cx="457200" cy="0"/>
          </a:xfrm>
          <a:prstGeom prst="line">
            <a:avLst/>
          </a:prstGeom>
          <a:ln w="28440">
            <a:solidFill>
              <a:srgbClr val="fafd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6324480" y="5562720"/>
            <a:ext cx="457200" cy="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620120" y="4495680"/>
            <a:ext cx="0" cy="60984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057400" y="6095520"/>
            <a:ext cx="0" cy="30492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2057400" y="6400800"/>
            <a:ext cx="327672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334120" y="6095520"/>
            <a:ext cx="0" cy="30492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867280" y="2057400"/>
            <a:ext cx="0" cy="30492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267080" y="2057400"/>
            <a:ext cx="0" cy="30492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105520" y="3200400"/>
            <a:ext cx="0" cy="30492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114800" y="3200400"/>
            <a:ext cx="0" cy="30492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200400"/>
            <a:ext cx="0" cy="30492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58000" y="64771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195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1592280" cy="9144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afd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Sales Forecast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91120" y="1219320"/>
            <a:ext cx="1752480" cy="8380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Production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Budge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962520" y="3505320"/>
            <a:ext cx="2361960" cy="8380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Cost of Good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Sold Budge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" y="3505320"/>
            <a:ext cx="236232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Marketing &amp; Administration Cost Budget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781680" y="3581280"/>
            <a:ext cx="1600200" cy="9144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Capital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Budge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895480" y="2362320"/>
            <a:ext cx="1371600" cy="8380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Material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Budge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419720" y="2362320"/>
            <a:ext cx="1218960" cy="8380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Labour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Budge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867280" y="2362320"/>
            <a:ext cx="1371600" cy="8380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Overhead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Budge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724280" y="5029200"/>
            <a:ext cx="1600200" cy="106668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Budgeted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Balanc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Shee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666880" y="5029200"/>
            <a:ext cx="1600200" cy="106668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Budgeted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incom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Statemen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781680" y="5105520"/>
            <a:ext cx="1600200" cy="83808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Cash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Budge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9480" y="5029200"/>
            <a:ext cx="1600200" cy="106668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Budgeted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Cash Flow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Statemen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rticipation in Budgeting Syste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88440" y="1219320"/>
            <a:ext cx="81457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articipation at all levels is necessary for the budget to be a meaningful exercis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spcAft>
                <a:spcPts val="1500"/>
              </a:spcAft>
              <a:buClr>
                <a:srgbClr val="fafd00"/>
              </a:buClr>
              <a:buFont typeface="Arial"/>
              <a:buChar char="•"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ome firms set “stretch” or “challenge” targets for revenues to motivate employees to put in extra effort and achieve higher performa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f strong pressure exists to achieve budget targets, employees may underestimate budgeted revenues and overestimate budgeted expens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adding” the budge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corporating budgetary slack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162920" y="64771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199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aizen Budge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8440" y="1219320"/>
            <a:ext cx="81457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Kaizen is a Japanese term for continuous improvemen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Kaizen budgeting is an approach to budgeting that explicitly incorporates continuous improvement during the budget perio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0"/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Example :  Budgeted labour hours for Regular and Heavy-Duty Units produced during the year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spcBef>
                <a:spcPts val="1250"/>
              </a:spcBef>
              <a:buNone/>
              <a:tabLst>
                <a:tab algn="l" pos="0"/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Regular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Heavy-Duty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spcBef>
                <a:spcPts val="1250"/>
              </a:spcBef>
              <a:buNone/>
              <a:tabLst>
                <a:tab algn="l" pos="0"/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January-March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4.00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6.00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pril-Jun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.90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.85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July-September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.80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.70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ctober-December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.70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.55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162920" y="64771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205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3T12:13:58Z</dcterms:created>
  <dc:creator>User</dc:creator>
  <dc:description/>
  <dc:language>en-US</dc:language>
  <cp:lastModifiedBy>John Moore</cp:lastModifiedBy>
  <cp:lastPrinted>1999-06-03T13:12:19Z</cp:lastPrinted>
  <dcterms:modified xsi:type="dcterms:W3CDTF">2003-03-22T13:11:59Z</dcterms:modified>
  <cp:revision>8</cp:revision>
  <dc:subject/>
  <dc:title>Budgets</dc:title>
</cp:coreProperties>
</file>